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27.png" ContentType="image/png"/>
  <Override PartName="/ppt/media/image33.jpeg" ContentType="image/jpeg"/>
  <Override PartName="/ppt/media/image22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34.jpeg" ContentType="image/jpeg"/>
  <Override PartName="/ppt/media/image18.png" ContentType="image/png"/>
  <Override PartName="/ppt/media/image8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960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FCD0-BC01-4D0C-A070-7881194B8E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,4*25=3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,5*24=3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5-372=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веты 3,6 км/ч   0,27 км/ч 16,2 км/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4583-397C-44B6-91C7-46B747FA5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43E2-53B3-4C28-901C-021DBAEAE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2E47-90E1-4782-A1C9-B16BD0B8D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ание олимпийского дви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импийский огонь горит на протяжении всей олимпиады – от церемонии открытия до церемонии закр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3FE8-D535-48DF-97DF-F97AD603F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52F2-3F3A-4604-8BDC-5471F0A1B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3C0E-A05F-49B0-92CD-F2D485E7B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A121-E71F-48F3-A3C0-FF7744F42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A477-0C7C-45B9-A0B6-DD7840853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E41A-A48D-4BDD-876E-31FFF2F6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F8D5-1300-415D-B11B-40E2A120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77A-23CC-47E3-B3AB-9883E59D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38C-8D27-4A29-92E7-E2733B75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1372-8E95-4C52-8B36-22697F65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54D8-EC65-4F0D-922B-2A4F9176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CE1D-8ECA-49D7-A01E-486062F4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8B3-CE74-4800-B66D-0D889168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A5A1-3CB3-4BBD-B6A6-B2F352CA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83F-B20D-4511-8913-29650C2A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E84-4F91-4CA2-8652-8261CA48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850E-87CD-49AA-98E5-754EF4D1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F77F-C5E0-4759-8FFE-C141D6830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vector-background-graphic-8"/>
          <p:cNvPicPr/>
          <p:nvPr/>
        </p:nvPicPr>
        <p:blipFill>
          <a:blip r:embed="rId1"/>
          <a:stretch/>
        </p:blipFill>
        <p:spPr>
          <a:xfrm>
            <a:off x="0" y="0"/>
            <a:ext cx="9144000" cy="91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3" descr="ANd9GcRIwpy-qgFT93a156ZVOLsL6V_3XxBtuBDXDUiy-Ww5iTI8lLt2iQ"/>
          <p:cNvPicPr/>
          <p:nvPr/>
        </p:nvPicPr>
        <p:blipFill>
          <a:blip r:embed="rId1"/>
          <a:stretch/>
        </p:blipFill>
        <p:spPr>
          <a:xfrm>
            <a:off x="-8966160" y="-3427560"/>
            <a:ext cx="18110160" cy="10285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Голкипер"/>
          <p:cNvPicPr/>
          <p:nvPr/>
        </p:nvPicPr>
        <p:blipFill>
          <a:blip r:embed="rId2"/>
          <a:stretch/>
        </p:blipFill>
        <p:spPr>
          <a:xfrm>
            <a:off x="4390920" y="2637000"/>
            <a:ext cx="4753080" cy="44035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81457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 молодежной команде по хоккею занимается 24 человека. Их средний возраст 15,5 лет. После того как в секцию записался новый игрок, средний возраст ее участников стал 15,4 лет. Сколько лет новому игро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13"/>
          <p:cNvPicPr/>
          <p:nvPr/>
        </p:nvPicPr>
        <p:blipFill>
          <a:blip r:embed="rId3"/>
          <a:stretch/>
        </p:blipFill>
        <p:spPr>
          <a:xfrm>
            <a:off x="0" y="3284640"/>
            <a:ext cx="1979640" cy="1649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15"/>
          <p:cNvPicPr/>
          <p:nvPr/>
        </p:nvPicPr>
        <p:blipFill>
          <a:blip r:embed="rId4"/>
          <a:stretch/>
        </p:blipFill>
        <p:spPr>
          <a:xfrm>
            <a:off x="2124000" y="4149720"/>
            <a:ext cx="2016360" cy="1681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16"/>
          <p:cNvPicPr/>
          <p:nvPr/>
        </p:nvPicPr>
        <p:blipFill>
          <a:blip r:embed="rId5"/>
          <a:stretch/>
        </p:blipFill>
        <p:spPr>
          <a:xfrm>
            <a:off x="250920" y="4952880"/>
            <a:ext cx="201744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7.40741E-007 C 0.0198 0.03958 0.0724 0.05972 0.10522 0.06898 C 0.12362 0.07407 0.14341 0.08634 0.16216 0.08727 C 0.21667 0.09004 0.32588 0.09421 0.32588 0.09421 C 0.36233 0.10231 0.39792 0.09143 0.43456 0.08958 C 0.46216 0.08819 0.48976 0.08796 0.51737 0.08727 C 0.53681 0.08194 0.5566 0.07916 0.57588 0.07361 C 0.58004 0.07245 0.58404 0.07037 0.58803 0.06898 C 0.59254 0.06736 0.60174 0.06435 0.60174 0.06435 C 0.62015 0.04791 0.5922 0.07176 0.6139 0.0574 C 0.61754 0.05509 0.62032 0.05 0.62414 0.04838 C 0.62761 0.04676 0.63108 0.04537 0.63456 0.04375 C 0.63629 0.04305 0.63976 0.04143 0.63976 0.04143 C 0.64567 0.03541 0.65226 0.02777 0.65869 0.02291 C 0.66303 0.01944 0.6724 0.01389 0.6724 0.01389 C 0.68056 -0.00255 0.66997 0.01713 0.68282 -7.40741E-007 C 0.69306 -0.01366 0.68369 -0.0044 0.6915 -0.01621 C 0.69619 -0.02338 0.70417 -0.03588 0.71042 -0.04144 C 0.71164 -0.04607 0.71268 -0.05047 0.7139 -0.0551 C 0.71442 -0.05741 0.71563 -0.06204 0.71563 -0.06204 C 0.71772 -0.09954 0.72258 -0.10047 0.69827 -0.10579 C 0.68959 -0.1176 0.68213 -0.12246 0.67067 -0.12639 C 0.65539 -0.13681 0.67414 -0.12547 0.64654 -0.13334 C 0.6441 -0.13403 0.64202 -0.13658 0.63976 -0.13797 C 0.63421 -0.14121 0.62796 -0.14167 0.6224 -0.14491 C 0.62015 -0.1463 0.61806 -0.14861 0.61563 -0.14954 C 0.60938 -0.15186 0.60279 -0.15186 0.59654 -0.15394 C 0.51303 -0.15255 0.43126 -0.15139 0.34827 -0.1426 C 0.32848 -0.14051 0.30643 -0.13473 0.28629 -0.13334 C 0.25695 -0.13125 0.19827 -0.12871 0.19827 -0.12871 C 0.18074 -0.12477 0.1639 -0.11736 0.14654 -0.11273 C 0.12397 -0.10047 0.09862 -0.09283 0.07761 -0.07593 C 0.07709 -0.05602 0.07952 -0.03565 0.07588 -0.01621 C 0.07501 -0.01158 0.06563 -0.01158 0.06563 -0.01158 C 0.05504 -0.0132 0.04879 -0.01158 0.0415 -0.02061 E">
                                      <p:cBhvr>
                                        <p:cTn id="238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22222E-006 C 0.00382 -0.02593 0.01233 -0.05116 0.0276 -0.06898 C 0.03212 -0.07431 0.03715 -0.07894 0.04132 -0.08496 C 0.04583 -0.09144 0.04896 -0.09931 0.05347 -0.10579 C 0.06389 -0.1206 0.06615 -0.11829 0.0776 -0.13102 C 0.08802 -0.14283 0.08368 -0.14005 0.09132 -0.15162 C 0.09948 -0.16389 0.10851 -0.17477 0.11719 -0.18611 C 0.14097 -0.21736 0.09792 -0.16783 0.1309 -0.20695 C 0.15208 -0.23195 0.17031 -0.24699 0.19653 -0.26204 C 0.21302 -0.27153 0.22865 -0.28333 0.24653 -0.28727 C 0.26129 -0.29931 0.2816 -0.30695 0.29826 -0.31273 C 0.31493 -0.31852 0.33108 -0.32894 0.34826 -0.33102 C 0.37899 -0.33472 0.40903 -0.34074 0.43958 -0.34491 C 0.44826 -0.34445 0.47726 -0.34722 0.49306 -0.34028 C 0.50677 -0.33426 0.51615 -0.32454 0.5276 -0.31273 C 0.5316 -0.30857 0.53681 -0.30695 0.54132 -0.30347 C 0.56181 -0.28773 0.54306 -0.30139 0.55851 -0.28496 C 0.57031 -0.27246 0.56892 -0.27917 0.5809 -0.26435 C 0.58368 -0.26111 0.58524 -0.25625 0.58785 -0.25278 C 0.58993 -0.25 0.59271 -0.24861 0.59479 -0.24607 C 0.59792 -0.24236 0.6007 -0.23866 0.60347 -0.23449 C 0.61458 -0.21806 0.62188 -0.19908 0.62917 -0.1794 C 0.63472 -0.16458 0.63438 -0.17176 0.63785 -0.15625 C 0.6408 -0.14352 0.64236 -0.13009 0.64479 -0.11713 C 0.64826 -0.06134 0.64861 -0.03681 0.64653 0.03217 C 0.64618 0.04213 0.64063 0.05347 0.63785 0.06204 C 0.6309 0.08379 0.62309 0.10903 0.61024 0.12639 C 0.58385 0.16204 0.52674 0.16342 0.49306 0.16528 C 0.47413 0.16481 0.45504 0.16435 0.43611 0.16319 C 0.42465 0.16227 0.40642 0.14792 0.39306 0.14491 C 0.38542 0.13773 0.37934 0.13264 0.37066 0.1287 C 0.36493 0.11713 0.36892 0.12338 0.35677 0.11273 C 0.35365 0.10995 0.3526 0.10463 0.35 0.10116 C 0.34219 0.09051 0.3309 0.08009 0.3224 0.07129 C 0.31337 0.06204 0.30903 0.05139 0.30174 0.04143 C 0.2967 0.03449 0.2908 0.02847 0.28611 0.0206 C 0.28351 0.0162 0.28247 0.01018 0.27917 0.00694 C 0.26875 -0.00371 0.26076 -0.01759 0.25 -0.02755 C 0.23924 -0.0375 0.22517 -0.05185 0.21372 -0.05972 C 0.1974 -0.07083 0.17656 -0.07894 0.15851 -0.08264 C 0.12882 -0.0963 0.09653 -0.0838 0.06892 -0.06898 C 0.05833 -0.05486 0.05174 -0.03681 0.04132 -0.02292 C 0.03681 0.00069 0.02274 0.0169 0.00677 0.02754 E">
                                      <p:cBhvr>
                                        <p:cTn id="243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6.66667E-006 C 0.01145 -0.03032 -0.00018 0.00348 0.00694 -0.07569 C 0.00798 -0.08842 0.01875 -0.10578 0.02413 -0.11504 C 0.05746 -0.1699 0.10902 -0.19235 0.15347 -0.22731 C 0.1684 -0.23911 0.16198 -0.23888 0.1776 -0.24814 C 0.21302 -0.26897 0.18229 -0.2486 0.20868 -0.2618 C 0.21996 -0.26759 0.23003 -0.27708 0.24132 -0.28263 C 0.27309 -0.29814 0.24027 -0.2736 0.27413 -0.29629 C 0.28003 -0.30022 0.28524 -0.30671 0.29132 -0.31018 C 0.31145 -0.32198 0.33368 -0.32708 0.35347 -0.34004 C 0.37795 -0.35624 0.39323 -0.36805 0.41892 -0.37916 C 0.45347 -0.39397 0.49323 -0.40184 0.52916 -0.40671 C 0.57934 -0.4037 0.62951 -0.403 0.67934 -0.39745 C 0.68541 -0.39675 0.69097 -0.39166 0.69652 -0.38819 C 0.7118 -0.37893 0.73941 -0.36388 0.7552 -0.3493 C 0.75954 -0.34536 0.76284 -0.33934 0.76718 -0.33541 C 0.77812 -0.32546 0.79166 -0.31874 0.80347 -0.31018 C 0.82534 -0.29421 0.84548 -0.27036 0.86388 -0.24814 C 0.87951 -0.22916 0.89878 -0.21226 0.91215 -0.1905 C 0.92291 -0.17291 0.93038 -0.15833 0.93975 -0.14004 C 0.94323 -0.12522 0.95104 -0.11018 0.95694 -0.09629 C 0.96007 -0.07592 0.95625 -0.09351 0.96545 -0.07106 C 0.96944 -0.0611 0.97152 -0.0486 0.97586 -0.03888 C 0.97777 -0.03471 0.98073 -0.03147 0.98281 -0.02731 C 0.99201 -0.00809 0.99548 0.02015 1.00347 0.04167 C 1.00694 0.06899 1.00746 0.09677 1.01041 0.12431 C 1.00989 0.15186 1.01076 0.17964 1.00868 0.20695 C 1.00833 0.21158 1.00503 0.21459 1.00347 0.21829 C 0.99461 0.23982 0.98368 0.25417 0.97066 0.27154 C 0.96823 0.27454 0.96788 0.27941 0.96545 0.28288 C 0.9585 0.29191 0.94774 0.30279 0.93975 0.31042 C 0.93107 0.31876 0.92465 0.33103 0.91545 0.33797 C 0.91128 0.34121 0.90625 0.34237 0.90173 0.34515 C 0.8901 0.35209 0.87882 0.36066 0.86718 0.36783 C 0.85295 0.37663 0.84166 0.38334 0.82586 0.38635 C 0.80434 0.39584 0.78003 0.39121 0.75868 0.38172 C 0.75208 0.37339 0.74948 0.37408 0.74132 0.37015 C 0.71545 0.34399 0.75173 0.37917 0.7276 0.36089 C 0.70781 0.34607 0.69079 0.32454 0.66892 0.31505 C 0.66666 0.31274 0.66458 0.31019 0.66215 0.30811 C 0.65989 0.30626 0.65729 0.30556 0.6552 0.30348 C 0.64652 0.29538 0.63836 0.28612 0.62934 0.27825 C 0.62309 0.26737 0.61996 0.26505 0.61041 0.25973 C 0.60295 0.24491 0.59878 0.22871 0.59132 0.2139 C 0.58958 0.20394 0.58698 0.197 0.58281 0.18843 C 0.58142 0.18172 0.57934 0.17501 0.57934 0.16806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be0e3"/>
                </a:solidFill>
                <a:latin typeface="Arial"/>
              </a:rPr>
              <a:t>Лыжная трасса 2,4 км идет на подъем, 3,2 км – на спуск, а остальные 5,2 км – по равнине. Лыжник прошел эту трассу за 40 минут. С какой средней скоростью он ше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4 + 3,2 + 5,2 = 10,8 (км) – длина лыж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а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10,8 : 40 = 0,27 (км/мин) – средняя ско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ыж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0,27     60 = 16,2 (км/ч) – средняя ско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ыж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. 16,2 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6629400" y="265428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72" name="Object 11"/>
          <p:cNvGraphicFramePr/>
          <p:nvPr/>
        </p:nvGraphicFramePr>
        <p:xfrm>
          <a:off x="0" y="2933640"/>
          <a:ext cx="914400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33640"/>
                    <a:ext cx="914400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Picture 15" descr="36"/>
          <p:cNvPicPr/>
          <p:nvPr/>
        </p:nvPicPr>
        <p:blipFill>
          <a:blip r:embed="rId3"/>
          <a:stretch/>
        </p:blipFill>
        <p:spPr>
          <a:xfrm>
            <a:off x="1908000" y="1916280"/>
            <a:ext cx="2792520" cy="3808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лыжник"/>
          <p:cNvPicPr/>
          <p:nvPr/>
        </p:nvPicPr>
        <p:blipFill>
          <a:blip r:embed="rId4"/>
          <a:stretch/>
        </p:blipFill>
        <p:spPr>
          <a:xfrm rot="607200">
            <a:off x="3563640" y="3500280"/>
            <a:ext cx="3809880" cy="1781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027"/>
          <p:cNvPicPr/>
          <p:nvPr/>
        </p:nvPicPr>
        <p:blipFill>
          <a:blip r:embed="rId5"/>
          <a:stretch/>
        </p:blipFill>
        <p:spPr>
          <a:xfrm>
            <a:off x="6659640" y="2492280"/>
            <a:ext cx="2905200" cy="3961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6" descr="162"/>
          <p:cNvPicPr/>
          <p:nvPr/>
        </p:nvPicPr>
        <p:blipFill>
          <a:blip r:embed="rId6"/>
          <a:stretch/>
        </p:blipFill>
        <p:spPr>
          <a:xfrm>
            <a:off x="1332000" y="4005360"/>
            <a:ext cx="2619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C 0.02466 0.0125 0.04948 0.02523 0.07066 0.04144 C 0.09184 0.05764 0.11268 0.0838 0.12761 0.09653 C 0.14254 0.10926 0.14202 0.11273 0.16042 0.11736 C 0.17882 0.12199 0.20643 0.12199 0.23802 0.12431 C 0.26962 0.12662 0.31875 0.12986 0.35 0.13102 C 0.38125 0.13218 0.40868 0.13102 0.42587 0.13102 C 0.44306 0.13102 0.38559 0.13681 0.45348 0.13102 C 0.52136 0.12523 0.75868 0.1037 0.83282 0.09653 C 0.90695 0.08935 0.90261 0.08843 0.89827 0.0875 E">
                                      <p:cBhvr>
                                        <p:cTn id="267" dur="3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272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7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9"/>
          <p:cNvGraphicFramePr/>
          <p:nvPr/>
        </p:nvGraphicFramePr>
        <p:xfrm>
          <a:off x="-684360" y="-334800"/>
          <a:ext cx="11377800" cy="75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4360" y="-334800"/>
                    <a:ext cx="11377800" cy="75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Picture 8" descr="i-1040"/>
          <p:cNvPicPr/>
          <p:nvPr/>
        </p:nvPicPr>
        <p:blipFill>
          <a:blip r:embed="rId3"/>
          <a:stretch/>
        </p:blipFill>
        <p:spPr>
          <a:xfrm>
            <a:off x="-757080" y="-387360"/>
            <a:ext cx="11377440" cy="75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1302654189_olimpiada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60280"/>
            <a:ext cx="9144000" cy="60944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66"/>
                </a:solidFill>
                <a:uFillTx/>
                <a:latin typeface="Arial"/>
              </a:rPr>
              <a:t>Обязательно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П.38, № 1527, 152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66"/>
                </a:solidFill>
                <a:uFillTx/>
                <a:latin typeface="Arial"/>
              </a:rPr>
              <a:t>Творческо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Составить и решить задачи по тема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Умножение и деление десятичных дроб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Среднее арифметическо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с олимпийским содержание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Творческую работу опубликовать на страниц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www.</a:t>
            </a: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linoit.co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2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576000" cy="52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576000" cy="520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576000" cy="520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"/>
          <p:cNvPicPr/>
          <p:nvPr/>
        </p:nvPicPr>
        <p:blipFill>
          <a:blip r:embed="rId4"/>
          <a:stretch/>
        </p:blipFill>
        <p:spPr>
          <a:xfrm>
            <a:off x="324000" y="3284640"/>
            <a:ext cx="576000" cy="520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5"/>
          <a:stretch/>
        </p:blipFill>
        <p:spPr>
          <a:xfrm>
            <a:off x="324000" y="4292640"/>
            <a:ext cx="576000" cy="52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"/>
          <p:cNvPicPr/>
          <p:nvPr/>
        </p:nvPicPr>
        <p:blipFill>
          <a:blip r:embed="rId6"/>
          <a:stretch/>
        </p:blipFill>
        <p:spPr>
          <a:xfrm>
            <a:off x="2484360" y="260280"/>
            <a:ext cx="574920" cy="519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"/>
          <p:cNvPicPr/>
          <p:nvPr/>
        </p:nvPicPr>
        <p:blipFill>
          <a:blip r:embed="rId7"/>
          <a:stretch/>
        </p:blipFill>
        <p:spPr>
          <a:xfrm>
            <a:off x="2484360" y="1268280"/>
            <a:ext cx="574920" cy="519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"/>
          <p:cNvPicPr/>
          <p:nvPr/>
        </p:nvPicPr>
        <p:blipFill>
          <a:blip r:embed="rId8"/>
          <a:stretch/>
        </p:blipFill>
        <p:spPr>
          <a:xfrm>
            <a:off x="2484360" y="2276640"/>
            <a:ext cx="574920" cy="519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"/>
          <p:cNvPicPr/>
          <p:nvPr/>
        </p:nvPicPr>
        <p:blipFill>
          <a:blip r:embed="rId9"/>
          <a:stretch/>
        </p:blipFill>
        <p:spPr>
          <a:xfrm>
            <a:off x="2484360" y="3284640"/>
            <a:ext cx="574920" cy="519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"/>
          <p:cNvPicPr/>
          <p:nvPr/>
        </p:nvPicPr>
        <p:blipFill>
          <a:blip r:embed="rId10"/>
          <a:stretch/>
        </p:blipFill>
        <p:spPr>
          <a:xfrm>
            <a:off x="2484360" y="4292640"/>
            <a:ext cx="574920" cy="519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" descr=""/>
          <p:cNvPicPr/>
          <p:nvPr/>
        </p:nvPicPr>
        <p:blipFill>
          <a:blip r:embed="rId11"/>
          <a:stretch/>
        </p:blipFill>
        <p:spPr>
          <a:xfrm>
            <a:off x="4572000" y="260280"/>
            <a:ext cx="576360" cy="520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" descr=""/>
          <p:cNvPicPr/>
          <p:nvPr/>
        </p:nvPicPr>
        <p:blipFill>
          <a:blip r:embed="rId12"/>
          <a:stretch/>
        </p:blipFill>
        <p:spPr>
          <a:xfrm>
            <a:off x="4572000" y="1268280"/>
            <a:ext cx="576360" cy="520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2" descr=""/>
          <p:cNvPicPr/>
          <p:nvPr/>
        </p:nvPicPr>
        <p:blipFill>
          <a:blip r:embed="rId13"/>
          <a:stretch/>
        </p:blipFill>
        <p:spPr>
          <a:xfrm>
            <a:off x="4572000" y="2276640"/>
            <a:ext cx="576360" cy="520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3" descr=""/>
          <p:cNvPicPr/>
          <p:nvPr/>
        </p:nvPicPr>
        <p:blipFill>
          <a:blip r:embed="rId14"/>
          <a:stretch/>
        </p:blipFill>
        <p:spPr>
          <a:xfrm>
            <a:off x="4572000" y="3284640"/>
            <a:ext cx="576360" cy="52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4" descr=""/>
          <p:cNvPicPr/>
          <p:nvPr/>
        </p:nvPicPr>
        <p:blipFill>
          <a:blip r:embed="rId15"/>
          <a:stretch/>
        </p:blipFill>
        <p:spPr>
          <a:xfrm>
            <a:off x="4572000" y="4292640"/>
            <a:ext cx="576360" cy="520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"/>
          <p:cNvPicPr/>
          <p:nvPr/>
        </p:nvPicPr>
        <p:blipFill>
          <a:blip r:embed="rId16"/>
          <a:stretch/>
        </p:blipFill>
        <p:spPr>
          <a:xfrm>
            <a:off x="6732720" y="189000"/>
            <a:ext cx="576000" cy="52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"/>
          <p:cNvPicPr/>
          <p:nvPr/>
        </p:nvPicPr>
        <p:blipFill>
          <a:blip r:embed="rId17"/>
          <a:stretch/>
        </p:blipFill>
        <p:spPr>
          <a:xfrm>
            <a:off x="6732720" y="1052640"/>
            <a:ext cx="576000" cy="520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7" descr=""/>
          <p:cNvPicPr/>
          <p:nvPr/>
        </p:nvPicPr>
        <p:blipFill>
          <a:blip r:embed="rId18"/>
          <a:stretch/>
        </p:blipFill>
        <p:spPr>
          <a:xfrm>
            <a:off x="6732720" y="1989000"/>
            <a:ext cx="576000" cy="520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8" descr=""/>
          <p:cNvPicPr/>
          <p:nvPr/>
        </p:nvPicPr>
        <p:blipFill>
          <a:blip r:embed="rId19"/>
          <a:stretch/>
        </p:blipFill>
        <p:spPr>
          <a:xfrm>
            <a:off x="6732720" y="2924280"/>
            <a:ext cx="576000" cy="520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9" descr=""/>
          <p:cNvPicPr/>
          <p:nvPr/>
        </p:nvPicPr>
        <p:blipFill>
          <a:blip r:embed="rId20"/>
          <a:stretch/>
        </p:blipFill>
        <p:spPr>
          <a:xfrm>
            <a:off x="6732720" y="3860640"/>
            <a:ext cx="576000" cy="520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0" descr=""/>
          <p:cNvPicPr/>
          <p:nvPr/>
        </p:nvPicPr>
        <p:blipFill>
          <a:blip r:embed="rId21"/>
          <a:stretch/>
        </p:blipFill>
        <p:spPr>
          <a:xfrm>
            <a:off x="6732720" y="4797360"/>
            <a:ext cx="576000" cy="52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" name="Object 3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3" name="Text Box 32"/>
          <p:cNvSpPr/>
          <p:nvPr/>
        </p:nvSpPr>
        <p:spPr>
          <a:xfrm>
            <a:off x="324000" y="18900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astellar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4"/>
          <p:cNvSpPr/>
          <p:nvPr/>
        </p:nvSpPr>
        <p:spPr>
          <a:xfrm>
            <a:off x="347400" y="119700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astellar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5"/>
          <p:cNvSpPr/>
          <p:nvPr/>
        </p:nvSpPr>
        <p:spPr>
          <a:xfrm>
            <a:off x="392400" y="2205000"/>
            <a:ext cx="49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astellar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347400" y="422100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astellar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424440" y="321300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astellar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8"/>
          <p:cNvSpPr/>
          <p:nvPr/>
        </p:nvSpPr>
        <p:spPr>
          <a:xfrm>
            <a:off x="2499480" y="189000"/>
            <a:ext cx="5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astellar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9"/>
          <p:cNvSpPr/>
          <p:nvPr/>
        </p:nvSpPr>
        <p:spPr>
          <a:xfrm>
            <a:off x="2584800" y="119700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astellar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0"/>
          <p:cNvSpPr/>
          <p:nvPr/>
        </p:nvSpPr>
        <p:spPr>
          <a:xfrm>
            <a:off x="4601160" y="321300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astellar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1"/>
          <p:cNvSpPr/>
          <p:nvPr/>
        </p:nvSpPr>
        <p:spPr>
          <a:xfrm>
            <a:off x="6761520" y="11592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astellar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2"/>
          <p:cNvSpPr/>
          <p:nvPr/>
        </p:nvSpPr>
        <p:spPr>
          <a:xfrm>
            <a:off x="6761520" y="378936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astellar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3"/>
          <p:cNvSpPr/>
          <p:nvPr/>
        </p:nvSpPr>
        <p:spPr>
          <a:xfrm>
            <a:off x="2553120" y="2205000"/>
            <a:ext cx="49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astellar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4"/>
          <p:cNvSpPr/>
          <p:nvPr/>
        </p:nvSpPr>
        <p:spPr>
          <a:xfrm>
            <a:off x="6737400" y="981000"/>
            <a:ext cx="56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astellar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5"/>
          <p:cNvSpPr/>
          <p:nvPr/>
        </p:nvSpPr>
        <p:spPr>
          <a:xfrm>
            <a:off x="2486160" y="3213000"/>
            <a:ext cx="61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astellar"/>
              </a:rPr>
              <a:t>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6"/>
          <p:cNvSpPr/>
          <p:nvPr/>
        </p:nvSpPr>
        <p:spPr>
          <a:xfrm>
            <a:off x="4500720" y="422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astellar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7"/>
          <p:cNvSpPr/>
          <p:nvPr/>
        </p:nvSpPr>
        <p:spPr>
          <a:xfrm>
            <a:off x="4572000" y="1197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astellar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8"/>
          <p:cNvSpPr/>
          <p:nvPr/>
        </p:nvSpPr>
        <p:spPr>
          <a:xfrm>
            <a:off x="2513520" y="422100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astellar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9"/>
          <p:cNvSpPr/>
          <p:nvPr/>
        </p:nvSpPr>
        <p:spPr>
          <a:xfrm>
            <a:off x="4572000" y="189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astellar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0"/>
          <p:cNvSpPr/>
          <p:nvPr/>
        </p:nvSpPr>
        <p:spPr>
          <a:xfrm>
            <a:off x="4575960" y="2205000"/>
            <a:ext cx="5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astellar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1"/>
          <p:cNvSpPr/>
          <p:nvPr/>
        </p:nvSpPr>
        <p:spPr>
          <a:xfrm>
            <a:off x="6730200" y="191628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astellar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2"/>
          <p:cNvSpPr/>
          <p:nvPr/>
        </p:nvSpPr>
        <p:spPr>
          <a:xfrm>
            <a:off x="6742440" y="285264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astellar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3"/>
          <p:cNvSpPr/>
          <p:nvPr/>
        </p:nvSpPr>
        <p:spPr>
          <a:xfrm>
            <a:off x="6723360" y="4724280"/>
            <a:ext cx="5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astellar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54"/>
              <p:cNvSpPr txBox="1"/>
              <p:nvPr/>
            </p:nvSpPr>
            <p:spPr>
              <a:xfrm>
                <a:off x="900000" y="260280"/>
                <a:ext cx="1152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2</m:t>
                    </m:r>
                    <m:r>
                      <m:t xml:space="preserve">⋅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55"/>
              <p:cNvSpPr txBox="1"/>
              <p:nvPr/>
            </p:nvSpPr>
            <p:spPr>
              <a:xfrm>
                <a:off x="900000" y="1268280"/>
                <a:ext cx="15843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56"/>
              <p:cNvSpPr txBox="1"/>
              <p:nvPr/>
            </p:nvSpPr>
            <p:spPr>
              <a:xfrm>
                <a:off x="900000" y="2205000"/>
                <a:ext cx="16560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  <m:r>
                      <m:t xml:space="preserve">+</m:t>
                    </m:r>
                    <m:r>
                      <m:t xml:space="preserve">5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57"/>
              <p:cNvSpPr txBox="1"/>
              <p:nvPr/>
            </p:nvSpPr>
            <p:spPr>
              <a:xfrm>
                <a:off x="826920" y="3213000"/>
                <a:ext cx="17290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58"/>
              <p:cNvSpPr txBox="1"/>
              <p:nvPr/>
            </p:nvSpPr>
            <p:spPr>
              <a:xfrm>
                <a:off x="900000" y="4221000"/>
                <a:ext cx="15112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8</m:t>
                    </m:r>
                    <m:r>
                      <m:t xml:space="preserve">+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59"/>
              <p:cNvSpPr txBox="1"/>
              <p:nvPr/>
            </p:nvSpPr>
            <p:spPr>
              <a:xfrm>
                <a:off x="3059280" y="260280"/>
                <a:ext cx="14414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2</m:t>
                    </m:r>
                    <m:r>
                      <m:t xml:space="preserve">⋅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60"/>
              <p:cNvSpPr txBox="1"/>
              <p:nvPr/>
            </p:nvSpPr>
            <p:spPr>
              <a:xfrm>
                <a:off x="3059280" y="1268280"/>
                <a:ext cx="1584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0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61"/>
              <p:cNvSpPr txBox="1"/>
              <p:nvPr/>
            </p:nvSpPr>
            <p:spPr>
              <a:xfrm>
                <a:off x="5148360" y="3284640"/>
                <a:ext cx="15843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62"/>
              <p:cNvSpPr txBox="1"/>
              <p:nvPr/>
            </p:nvSpPr>
            <p:spPr>
              <a:xfrm>
                <a:off x="3059280" y="2133720"/>
                <a:ext cx="1296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,6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63"/>
              <p:cNvSpPr txBox="1"/>
              <p:nvPr/>
            </p:nvSpPr>
            <p:spPr>
              <a:xfrm>
                <a:off x="3059280" y="3284640"/>
                <a:ext cx="14414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64"/>
              <p:cNvSpPr txBox="1"/>
              <p:nvPr/>
            </p:nvSpPr>
            <p:spPr>
              <a:xfrm>
                <a:off x="3059280" y="4292640"/>
                <a:ext cx="1512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65"/>
              <p:cNvSpPr txBox="1"/>
              <p:nvPr/>
            </p:nvSpPr>
            <p:spPr>
              <a:xfrm>
                <a:off x="5148360" y="260280"/>
                <a:ext cx="10792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66"/>
              <p:cNvSpPr txBox="1"/>
              <p:nvPr/>
            </p:nvSpPr>
            <p:spPr>
              <a:xfrm>
                <a:off x="5148360" y="1268280"/>
                <a:ext cx="14396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,8</m:t>
                    </m:r>
                    <m:r>
                      <m:t xml:space="preserve">: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67"/>
              <p:cNvSpPr txBox="1"/>
              <p:nvPr/>
            </p:nvSpPr>
            <p:spPr>
              <a:xfrm>
                <a:off x="5148360" y="2205000"/>
                <a:ext cx="14396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68"/>
              <p:cNvSpPr txBox="1"/>
              <p:nvPr/>
            </p:nvSpPr>
            <p:spPr>
              <a:xfrm>
                <a:off x="5184720" y="4292640"/>
                <a:ext cx="15112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,1</m:t>
                    </m:r>
                    <m:r>
                      <m:t xml:space="preserve">−</m:t>
                    </m:r>
                    <m:r>
                      <m:t xml:space="preserve">4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69"/>
              <p:cNvSpPr txBox="1"/>
              <p:nvPr/>
            </p:nvSpPr>
            <p:spPr>
              <a:xfrm>
                <a:off x="7236000" y="189000"/>
                <a:ext cx="19080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70"/>
              <p:cNvSpPr txBox="1"/>
              <p:nvPr/>
            </p:nvSpPr>
            <p:spPr>
              <a:xfrm>
                <a:off x="7308720" y="1052640"/>
                <a:ext cx="14400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r>
                      <m:t xml:space="preserve">4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71"/>
              <p:cNvSpPr txBox="1"/>
              <p:nvPr/>
            </p:nvSpPr>
            <p:spPr>
              <a:xfrm>
                <a:off x="7308720" y="1989000"/>
                <a:ext cx="17272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+</m:t>
                    </m:r>
                    <m:r>
                      <m:t xml:space="preserve">4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73"/>
              <p:cNvSpPr txBox="1"/>
              <p:nvPr/>
            </p:nvSpPr>
            <p:spPr>
              <a:xfrm>
                <a:off x="7308720" y="2924280"/>
                <a:ext cx="16560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74"/>
              <p:cNvSpPr txBox="1"/>
              <p:nvPr/>
            </p:nvSpPr>
            <p:spPr>
              <a:xfrm>
                <a:off x="7308720" y="3860640"/>
                <a:ext cx="16560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5"/>
              <p:cNvSpPr txBox="1"/>
              <p:nvPr/>
            </p:nvSpPr>
            <p:spPr>
              <a:xfrm>
                <a:off x="7242120" y="4797360"/>
                <a:ext cx="15778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⋅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7037E-006 L -0.00382 0.7257 E">
                                      <p:cBhvr>
                                        <p:cTn id="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.00138 L -0.19236 0.4331 E">
                                      <p:cBhvr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81481E-006 L -0.35139 0.28334 E">
                                      <p:cBhvr>
                                        <p:cTn id="14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44444E-006 L -0.28733 0.57871 E">
                                      <p:cBhvr>
                                        <p:cTn id="1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96296E-006 L -0.46475 0.61019 E">
                                      <p:cBhvr>
                                        <p:cTn id="2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44444E-006 L 0.06597 0.57871 E">
                                      <p:cBhvr>
                                        <p:cTn id="26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7407E-006 L 0.36528 0.28472 E">
                                      <p:cBhvr>
                                        <p:cTn id="3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037E-007 L -0.64427 0.45278 E">
                                      <p:cBhvr>
                                        <p:cTn id="34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0.09913 0.54722 E">
                                      <p:cBhvr>
                                        <p:cTn id="38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6 L -0.29514 0.84121 E">
                                      <p:cBhvr>
                                        <p:cTn id="4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07407E-006 L -0.00243 0.40023 E">
                                      <p:cBhvr>
                                        <p:cTn id="4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-0.14965 0.25324 E">
                                      <p:cBhvr>
                                        <p:cTn id="5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037E-006 L -0.31997 0.31621 E">
                                      <p:cBhvr>
                                        <p:cTn id="5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L 0.44392 0.69422 E">
                                      <p:cBhvr>
                                        <p:cTn id="5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037E-006 L -0.19705 0.17986 E">
                                      <p:cBhvr>
                                        <p:cTn id="6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81481E-006 L 0.09566 0.54722 E">
                                      <p:cBhvr>
                                        <p:cTn id="6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33333E-006 L 0.38091 0.25324 E">
                                      <p:cBhvr>
                                        <p:cTn id="70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33333E-006 L 0.65504 0.25324 E">
                                      <p:cBhvr>
                                        <p:cTn id="74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7037E-006 L 0.4658 0.84121 E">
                                      <p:cBhvr>
                                        <p:cTn id="7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44444E-006 L 0.07066 0.58935 E">
                                      <p:cBhvr>
                                        <p:cTn id="82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0.12899 0.85185 E">
                                      <p:cBhvr>
                                        <p:cTn id="86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vector-background-graphic-8"/>
          <p:cNvPicPr/>
          <p:nvPr/>
        </p:nvPicPr>
        <p:blipFill>
          <a:blip r:embed="rId1"/>
          <a:stretch/>
        </p:blipFill>
        <p:spPr>
          <a:xfrm>
            <a:off x="0" y="0"/>
            <a:ext cx="9144000" cy="9126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Девиз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2480" y="2349360"/>
            <a:ext cx="793116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800" spc="-1" strike="noStrike">
                <a:solidFill>
                  <a:srgbClr val="000066"/>
                </a:solidFill>
                <a:latin typeface="Arial"/>
              </a:rPr>
              <a:t>Быстре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4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203640" y="3500280"/>
            <a:ext cx="45622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Arial"/>
              </a:rPr>
              <a:t>Выш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714920" y="4797360"/>
            <a:ext cx="403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Arial"/>
              </a:rPr>
              <a:t>Сильне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8" descr=""/>
          <p:cNvPicPr/>
          <p:nvPr/>
        </p:nvPicPr>
        <p:blipFill>
          <a:blip r:embed="rId1"/>
          <a:stretch/>
        </p:blipFill>
        <p:spPr>
          <a:xfrm>
            <a:off x="-181080" y="-243000"/>
            <a:ext cx="9325080" cy="9325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408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лассная работа.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реднее арифметическ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7"/>
              <p:cNvSpPr txBox="1"/>
              <p:nvPr/>
            </p:nvSpPr>
            <p:spPr>
              <a:xfrm>
                <a:off x="0" y="265428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5"/>
              <p:cNvSpPr txBox="1"/>
              <p:nvPr/>
            </p:nvSpPr>
            <p:spPr>
              <a:xfrm>
                <a:off x="9067680" y="265428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7"/>
              <p:cNvSpPr txBox="1"/>
              <p:nvPr/>
            </p:nvSpPr>
            <p:spPr>
              <a:xfrm>
                <a:off x="0" y="499428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5" name="Text Box 6"/>
          <p:cNvSpPr/>
          <p:nvPr/>
        </p:nvSpPr>
        <p:spPr>
          <a:xfrm>
            <a:off x="179280" y="1268280"/>
            <a:ext cx="896472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реднее арифмет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(Сумма чисел) : (количество слагаемы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1116000" y="-387360"/>
            <a:ext cx="71280" cy="972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1187280" y="3036960"/>
            <a:ext cx="795672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Средняя скор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(Весь пройденный путь) : (все время движ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1258920" y="4816440"/>
            <a:ext cx="788508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умма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(среднее арифметическое) (количество чисел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1" descr="vector-background-graphic-8"/>
          <p:cNvPicPr/>
          <p:nvPr/>
        </p:nvPicPr>
        <p:blipFill>
          <a:blip r:embed="rId1"/>
          <a:stretch/>
        </p:blipFill>
        <p:spPr>
          <a:xfrm>
            <a:off x="0" y="0"/>
            <a:ext cx="9144000" cy="9126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0" y="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6" descr="Огонь цветной"/>
          <p:cNvPicPr/>
          <p:nvPr/>
        </p:nvPicPr>
        <p:blipFill>
          <a:blip r:embed="rId2"/>
          <a:stretch/>
        </p:blipFill>
        <p:spPr>
          <a:xfrm>
            <a:off x="1908000" y="333360"/>
            <a:ext cx="54072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волк и заяц"/>
          <p:cNvPicPr/>
          <p:nvPr/>
        </p:nvPicPr>
        <p:blipFill>
          <a:blip r:embed="rId3"/>
          <a:stretch/>
        </p:blipFill>
        <p:spPr>
          <a:xfrm>
            <a:off x="0" y="0"/>
            <a:ext cx="3162240" cy="47815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4"/>
          <p:cNvSpPr/>
          <p:nvPr/>
        </p:nvSpPr>
        <p:spPr>
          <a:xfrm>
            <a:off x="327600" y="620640"/>
            <a:ext cx="371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9 – СИ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,1 – ЖЕЛ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,5 – ОРАНЖЕ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2 – КРА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1 - ЗЕЛЕ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6" descr="Огонь"/>
          <p:cNvPicPr/>
          <p:nvPr/>
        </p:nvPicPr>
        <p:blipFill>
          <a:blip r:embed="rId4"/>
          <a:stretch/>
        </p:blipFill>
        <p:spPr>
          <a:xfrm>
            <a:off x="539640" y="260280"/>
            <a:ext cx="7452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Чебурашка купил в интернет-магазине три плюшевых талисмана 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XXII </a:t>
            </a: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Олимпийских игр: Зайку с бантом за 295 рублей, Мишку с шарфом за 295 рублей и Барса с поясом за 399 рублей. Какова средняя цена плюшевого талисмана в этом магазине? Ответ округлите до десятк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Чебурашка"/>
          <p:cNvPicPr/>
          <p:nvPr/>
        </p:nvPicPr>
        <p:blipFill>
          <a:blip r:embed="rId1"/>
          <a:stretch/>
        </p:blipFill>
        <p:spPr>
          <a:xfrm>
            <a:off x="0" y="3933720"/>
            <a:ext cx="3240000" cy="242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Object 5"/>
          <p:cNvGraphicFramePr/>
          <p:nvPr/>
        </p:nvGraphicFramePr>
        <p:xfrm>
          <a:off x="3780000" y="3573360"/>
          <a:ext cx="5079960" cy="302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3573360"/>
                    <a:ext cx="507996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9" descr="raznocvetnyj-fon11"/>
          <p:cNvPicPr/>
          <p:nvPr/>
        </p:nvPicPr>
        <p:blipFill>
          <a:blip r:embed="rId1"/>
          <a:stretch/>
        </p:blipFill>
        <p:spPr>
          <a:xfrm>
            <a:off x="-1044720" y="0"/>
            <a:ext cx="1098072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фигуристка2"/>
          <p:cNvPicPr/>
          <p:nvPr/>
        </p:nvPicPr>
        <p:blipFill>
          <a:blip r:embed="rId2"/>
          <a:stretch/>
        </p:blipFill>
        <p:spPr>
          <a:xfrm>
            <a:off x="-468360" y="-266760"/>
            <a:ext cx="9894960" cy="71247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71640" y="259920"/>
            <a:ext cx="612144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На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XIX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Олимпийских играх (США, Солт-Лейк-Сити, 2002) в соревнованиях  по фигурному катанию одной из участниц, чтобы попасть в десятку сильнейших, требовалось набрать в произвольной программе не менее 5,4 балла. Судьи ей выставили оценки: 5,3; 5,7; 5,4; 5,5; 5,3; 5,4; 5,6; 5,7; 5,6. Справилась ли фигуристка со своей задач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Zvuki_-_Aplodismenti._(get-tune.net).mp3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8-4.jpg"/>
          <p:cNvPicPr/>
          <p:nvPr/>
        </p:nvPicPr>
        <p:blipFill>
          <a:blip r:embed="rId2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Object 11"/>
          <p:cNvGraphicFramePr/>
          <p:nvPr/>
        </p:nvGraphicFramePr>
        <p:xfrm>
          <a:off x="0" y="-819000"/>
          <a:ext cx="9144000" cy="24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-819000"/>
                    <a:ext cx="9144000" cy="24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Picture 2" descr=""/>
          <p:cNvPicPr/>
          <p:nvPr/>
        </p:nvPicPr>
        <p:blipFill>
          <a:blip r:embed="rId5"/>
          <a:stretch/>
        </p:blipFill>
        <p:spPr>
          <a:xfrm>
            <a:off x="1440" y="2205000"/>
            <a:ext cx="9142560" cy="3657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Фигуристка"/>
          <p:cNvPicPr/>
          <p:nvPr/>
        </p:nvPicPr>
        <p:blipFill>
          <a:blip r:embed="rId6"/>
          <a:stretch/>
        </p:blipFill>
        <p:spPr>
          <a:xfrm>
            <a:off x="-541440" y="1628640"/>
            <a:ext cx="1578240" cy="2232000"/>
          </a:xfrm>
          <a:prstGeom prst="rect">
            <a:avLst/>
          </a:prstGeom>
          <a:ln w="0">
            <a:noFill/>
          </a:ln>
        </p:spPr>
      </p:pic>
      <p:pic>
        <p:nvPicPr>
          <p:cNvPr id="148" name="Zvuki_-_Aplodismenti._(get-tune.net).mp3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12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3102 C 0.11285 -0.12662 0.28108 -0.22569 0.46893 -0.22569 C 0.65625 -0.22569 0.82466 -0.12662 0.9375 0.03102 C 0.82466 0.18912 0.65625 0.28889 0.46893 0.28889 C 0.28108 0.28889 0.11285 0.18912 0.00035 0.03102 Z">
                                      <p:cBhvr>
                                        <p:cTn id="144" dur="3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" autoRev="1" nodeType="afterEffect" fill="hold" presetClass="path" presetID="12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2952 0.03333 C 0.81806 0.19236 0.65105 0.29236 0.46493 0.29236 C 0.279 0.29236 0.11198 0.19236 -0.00017 0.03333 C 0.11198 -0.12569 0.279 -0.22592 0.46493 -0.22592 C 0.65105 -0.22592 0.81806 -0.12569 0.92952 0.03333 Z">
                                      <p:cBhvr>
                                        <p:cTn id="147" dur="3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9" nodeType="afterEffect" fill="hold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0.04537 C 0.06111 0.02153 0.079 -0.00231 0.10539 -0.0169 C 0.13177 -0.03148 0.16164 -0.03866 0.20191 -0.04213 C 0.24219 -0.0456 0.30625 -0.04514 0.3467 -0.0375 C 0.38716 -0.02986 0.42084 -0.01713 0.44497 0.00394 C 0.4691 0.025 0.46337 0.06435 0.4915 0.08889 C 0.51962 0.11343 0.56355 0.14213 0.61389 0.15093 C 0.66424 0.15972 0.74861 0.1544 0.79323 0.1419 C 0.83785 0.1294 0.86719 0.09815 0.88125 0.07523 C 0.89532 0.05232 0.88993 0.02246 0.87778 0.00394 C 0.86563 -0.01458 0.84653 -0.02523 0.80886 -0.03518 C 0.77118 -0.04514 0.69896 -0.05764 0.65191 -0.05579 C 0.60486 -0.05393 0.55677 -0.03657 0.52605 -0.02361 C 0.49532 -0.01065 0.47969 0.00625 0.46736 0.02222 C 0.45504 0.0382 0.45712 0.05787 0.45191 0.07292 C 0.4467 0.08796 0.44809 0.10023 0.43629 0.11204 C 0.42448 0.12384 0.40539 0.13658 0.38125 0.14421 C 0.35712 0.15185 0.32101 0.15602 0.2915 0.15787 C 0.26198 0.15972 0.23611 0.16158 0.20365 0.15556 C 0.17118 0.14954 0.12396 0.13681 0.0967 0.12107 C 0.06945 0.10533 0.05452 0.08333 0.03976 0.06134 E">
                                      <p:cBhvr>
                                        <p:cTn id="150" dur="3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8000"/>
                            </p:stCondLst>
                            <p:childTnLst>
                              <p:par>
                                <p:cTn id="152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511 0.32037 L 0.46511 -0.20463 E">
                                      <p:cBhvr>
                                        <p:cTn id="153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0"/>
                            </p:stCondLst>
                            <p:childTnLst>
                              <p:par>
                                <p:cTn id="15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511 -0.20463 L 0.46511 0.2993 E">
                                      <p:cBhvr>
                                        <p:cTn id="156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2000"/>
                            </p:stCondLst>
                            <p:childTnLst>
                              <p:par>
                                <p:cTn id="15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511 0.29931 L 0.46511 -0.21504 E">
                                      <p:cBhvr>
                                        <p:cTn id="159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4000"/>
                            </p:stCondLst>
                            <p:childTnLst>
                              <p:par>
                                <p:cTn id="1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511 -0.20463 L 0.46511 0.30972 E">
                                      <p:cBhvr>
                                        <p:cTn id="162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6000"/>
                            </p:stCondLst>
                            <p:childTnLst>
                              <p:par>
                                <p:cTn id="16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511 0.29931 L 0.46511 0.03681 E">
                                      <p:cBhvr>
                                        <p:cTn id="165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8000"/>
                            </p:stCondLst>
                            <p:childTnLst>
                              <p:par>
                                <p:cTn id="16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511 0.03681 L 0.90608 0.03681 E">
                                      <p:cBhvr>
                                        <p:cTn id="16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0"/>
                            </p:stCondLst>
                            <p:childTnLst>
                              <p:par>
                                <p:cTn id="17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2952 0.03333 L 0.00035 0.02615 E">
                                      <p:cBhvr>
                                        <p:cTn id="171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2000"/>
                            </p:stCondLst>
                            <p:childTnLst>
                              <p:par>
                                <p:cTn id="17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3102 L 0.89809 0.03681 E">
                                      <p:cBhvr>
                                        <p:cTn id="174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4000"/>
                            </p:stCondLst>
                            <p:childTnLst>
                              <p:par>
                                <p:cTn id="17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2951 0.03333 L -0.00018 0.01759 E">
                                      <p:cBhvr>
                                        <p:cTn id="177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6000"/>
                            </p:stCondLst>
                            <p:childTnLst>
                              <p:par>
                                <p:cTn id="17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0.03102 L 0.92204 0.04676 E">
                                      <p:cBhvr>
                                        <p:cTn id="180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8000"/>
                            </p:stCondLst>
                            <p:childTnLst>
                              <p:par>
                                <p:cTn id="18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2952 0.03333 L 0.00834 0.01574 E">
                                      <p:cBhvr>
                                        <p:cTn id="183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000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5477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1300499627_olimpiada-sochi-marka"/>
          <p:cNvPicPr/>
          <p:nvPr/>
        </p:nvPicPr>
        <p:blipFill>
          <a:blip r:embed="rId1"/>
          <a:stretch/>
        </p:blipFill>
        <p:spPr>
          <a:xfrm>
            <a:off x="-181080" y="0"/>
            <a:ext cx="1018872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7129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Футбол и скоростной бег на коньк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6"/>
          <p:cNvGraphicFramePr/>
          <p:nvPr/>
        </p:nvGraphicFramePr>
        <p:xfrm>
          <a:off x="6807240" y="0"/>
          <a:ext cx="233676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07240" y="0"/>
                    <a:ext cx="23367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Picture 15" descr="Без имени-2"/>
          <p:cNvPicPr/>
          <p:nvPr/>
        </p:nvPicPr>
        <p:blipFill>
          <a:blip r:embed="rId4"/>
          <a:stretch/>
        </p:blipFill>
        <p:spPr>
          <a:xfrm>
            <a:off x="6516720" y="907920"/>
            <a:ext cx="2228760" cy="222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Object 20"/>
          <p:cNvGraphicFramePr/>
          <p:nvPr/>
        </p:nvGraphicFramePr>
        <p:xfrm>
          <a:off x="4788000" y="5373720"/>
          <a:ext cx="2371680" cy="125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8000" y="5373720"/>
                    <a:ext cx="237168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7" name="Picture 23" descr="http://cosh.com.ua/img.php?cat=4&amp;num=2048"/>
          <p:cNvPicPr/>
          <p:nvPr/>
        </p:nvPicPr>
        <p:blipFill>
          <a:blip r:embed="rId7"/>
          <a:stretch/>
        </p:blipFill>
        <p:spPr>
          <a:xfrm>
            <a:off x="6156360" y="2781360"/>
            <a:ext cx="1514520" cy="216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9" descr="200px-%D0%9C%D0%B0%D1%80%D0%BA%D0%B0_%D0%A0%D0%BE%D1%81%D1%81%D0%B8%D0%B8_2006%D0%B3_%E2%84%961068-%D0%A1%D0%BD%D0%BE%D1%83%D0%B1%D0%BE%D1%80%D0%B4"/>
          <p:cNvPicPr/>
          <p:nvPr/>
        </p:nvPicPr>
        <p:blipFill>
          <a:blip r:embed="rId8"/>
          <a:stretch/>
        </p:blipFill>
        <p:spPr>
          <a:xfrm>
            <a:off x="6983280" y="4508640"/>
            <a:ext cx="2160720" cy="1523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4"/>
          <p:cNvSpPr/>
          <p:nvPr/>
        </p:nvSpPr>
        <p:spPr>
          <a:xfrm>
            <a:off x="-396720" y="1773360"/>
            <a:ext cx="6697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Стрельба из винтовки и 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лыжная го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-757080" y="2997360"/>
            <a:ext cx="684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Танцы и конькобежный 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спо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6"/>
          <p:cNvSpPr/>
          <p:nvPr/>
        </p:nvSpPr>
        <p:spPr>
          <a:xfrm>
            <a:off x="250920" y="4724280"/>
            <a:ext cx="59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Скейтборд и санный спо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7"/>
          <p:cNvSpPr/>
          <p:nvPr/>
        </p:nvSpPr>
        <p:spPr>
          <a:xfrm>
            <a:off x="-181080" y="5661000"/>
            <a:ext cx="456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Боулинг и хокк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5:11:29Z</dcterms:created>
  <dc:creator>Olga</dc:creator>
  <dc:description/>
  <dc:language>en-US</dc:language>
  <cp:lastModifiedBy>Olga</cp:lastModifiedBy>
  <dcterms:modified xsi:type="dcterms:W3CDTF">2014-01-08T17:48:57Z</dcterms:modified>
  <cp:revision>20</cp:revision>
  <dc:subject/>
  <dc:title>Слайд 1</dc:title>
</cp:coreProperties>
</file>